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530-B823-49FC-B18E-064D9162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ve. You make decision on the basis of past events or experiences, try to address issues and problems related to the past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ctive. You make decisions on the analysis of current situation and de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Active. You predict future on the basis of data and try to address forecast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active. This is creative approach and you make new decisions according to new vision. This approach introduces new horiz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0BE-526E-4321-B5E2-735E0FF2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2BD-EA29-4DE8-B50F-0AF9A27C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67A-E3FF-43A7-8DC1-4D4C5B0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5B7-DBCB-42AF-A040-C5C7216E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737-FBC3-4901-BD4D-D93E0124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52C-DEC6-4E59-96AF-7965388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FAF-34FF-4D13-A18D-0AF62056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2EE-0BB6-41DC-9E00-D5D4B0F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687-30E3-482D-9316-41FB73F2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E1F-B59C-45ED-9D5B-6730CF0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D29-7723-4DDA-A875-6B50D05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66C-85CA-47B7-937B-2DC109A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39B-E302-4037-B14D-7BC9A4A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7642-8479-407E-B5C3-A59ED78D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762280"/>
          </a:xfrm>
          <a:prstGeom prst="rect">
            <a:avLst/>
          </a:prstGeom>
          <a:solidFill>
            <a:srgbClr val="8ce1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ducational 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Tahir Nad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at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atic study of future is futu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of Futu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Your experiences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426960" y="1584360"/>
            <a:ext cx="82598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Approaches to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Reactive – pas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Inactive - presen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e-active – prediction based 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(predicting futur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oactive - vision based (creating 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Approaches to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mand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Return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ppointed as a Director of a Task Force in a District. You have no information about that district and its education. Target of that Task Force is “Improvements in College Education”.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 do you need to know before starting your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&amp;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4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lement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Content Placeholder 4"/>
          <p:cNvGrpSpPr/>
          <p:nvPr/>
        </p:nvGrpSpPr>
        <p:grpSpPr>
          <a:xfrm>
            <a:off x="2479680" y="1901880"/>
            <a:ext cx="4186080" cy="4098600"/>
            <a:chOff x="2479680" y="1901880"/>
            <a:chExt cx="4186080" cy="4098600"/>
          </a:xfrm>
        </p:grpSpPr>
        <p:sp>
          <p:nvSpPr>
            <p:cNvPr id="84" name="_s1028"/>
            <p:cNvSpPr/>
            <p:nvPr/>
          </p:nvSpPr>
          <p:spPr>
            <a:xfrm>
              <a:off x="3716280" y="192060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rot="3060000">
              <a:off x="4565160" y="233028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rot="6180000">
              <a:off x="4776120" y="3249000"/>
              <a:ext cx="1711440" cy="171108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rot="9240000">
              <a:off x="4187520" y="398772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2"/>
            <p:cNvSpPr/>
            <p:nvPr/>
          </p:nvSpPr>
          <p:spPr>
            <a:xfrm rot="12360000">
              <a:off x="3244320" y="398736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3"/>
            <p:cNvSpPr/>
            <p:nvPr/>
          </p:nvSpPr>
          <p:spPr>
            <a:xfrm rot="15420000">
              <a:off x="2655360" y="325044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4"/>
            <p:cNvSpPr/>
            <p:nvPr/>
          </p:nvSpPr>
          <p:spPr>
            <a:xfrm rot="18540000">
              <a:off x="2865240" y="232992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5"/>
            <p:cNvSpPr/>
            <p:nvPr/>
          </p:nvSpPr>
          <p:spPr>
            <a:xfrm>
              <a:off x="5019480" y="1901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6"/>
            <p:cNvSpPr/>
            <p:nvPr/>
          </p:nvSpPr>
          <p:spPr>
            <a:xfrm>
              <a:off x="2479680" y="3127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7"/>
            <p:cNvSpPr/>
            <p:nvPr/>
          </p:nvSpPr>
          <p:spPr>
            <a:xfrm>
              <a:off x="3454200" y="1903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8"/>
            <p:cNvSpPr/>
            <p:nvPr/>
          </p:nvSpPr>
          <p:spPr>
            <a:xfrm>
              <a:off x="5995800" y="31255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9"/>
            <p:cNvSpPr/>
            <p:nvPr/>
          </p:nvSpPr>
          <p:spPr>
            <a:xfrm>
              <a:off x="5648400" y="4651200"/>
              <a:ext cx="669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4238640" y="5330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41"/>
            <p:cNvSpPr/>
            <p:nvPr/>
          </p:nvSpPr>
          <p:spPr>
            <a:xfrm>
              <a:off x="2828880" y="465300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Diagram 5"/>
          <p:cNvGrpSpPr/>
          <p:nvPr/>
        </p:nvGrpSpPr>
        <p:grpSpPr>
          <a:xfrm>
            <a:off x="2349360" y="1937880"/>
            <a:ext cx="4445280" cy="3849840"/>
            <a:chOff x="2349360" y="1937880"/>
            <a:chExt cx="4445280" cy="3849840"/>
          </a:xfrm>
        </p:grpSpPr>
        <p:sp>
          <p:nvSpPr>
            <p:cNvPr id="100" name="_s2052"/>
            <p:cNvSpPr/>
            <p:nvPr/>
          </p:nvSpPr>
          <p:spPr>
            <a:xfrm flipV="1">
              <a:off x="3830760" y="1937520"/>
              <a:ext cx="1482480" cy="1282680"/>
            </a:xfrm>
            <a:custGeom>
              <a:avLst/>
              <a:gdLst>
                <a:gd name="textAreaLeft" fmla="*/ 531720 w 1482480"/>
                <a:gd name="textAreaRight" fmla="*/ 950760 w 1482480"/>
                <a:gd name="textAreaTop" fmla="*/ 460080 h 1282680"/>
                <a:gd name="textAreaBottom" fmla="*/ 8226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3"/>
            <p:cNvSpPr/>
            <p:nvPr/>
          </p:nvSpPr>
          <p:spPr>
            <a:xfrm flipV="1">
              <a:off x="3090960" y="3220920"/>
              <a:ext cx="2962080" cy="1284480"/>
            </a:xfrm>
            <a:custGeom>
              <a:avLst/>
              <a:gdLst>
                <a:gd name="textAreaLeft" fmla="*/ 651240 w 2962080"/>
                <a:gd name="textAreaRight" fmla="*/ 2310840 w 2962080"/>
                <a:gd name="textAreaTop" fmla="*/ 282240 h 1284480"/>
                <a:gd name="textAreaBottom" fmla="*/ 1002240 h 12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ctic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54"/>
            <p:cNvSpPr/>
            <p:nvPr/>
          </p:nvSpPr>
          <p:spPr>
            <a:xfrm flipV="1">
              <a:off x="2349360" y="4504680"/>
              <a:ext cx="4445280" cy="1282680"/>
            </a:xfrm>
            <a:custGeom>
              <a:avLst/>
              <a:gdLst>
                <a:gd name="textAreaLeft" fmla="*/ 771480 w 4445280"/>
                <a:gd name="textAreaRight" fmla="*/ 3673800 w 4445280"/>
                <a:gd name="textAreaTop" fmla="*/ 222480 h 1282680"/>
                <a:gd name="textAreaBottom" fmla="*/ 10602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genda;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activities in academ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effective and ineffectiv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Skills for organiz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400120" y="1982880"/>
            <a:ext cx="4343400" cy="3760560"/>
            <a:chOff x="2400120" y="1982880"/>
            <a:chExt cx="4343400" cy="3760560"/>
          </a:xfrm>
        </p:grpSpPr>
        <p:sp>
          <p:nvSpPr>
            <p:cNvPr id="105" name="_s3076"/>
            <p:cNvSpPr/>
            <p:nvPr/>
          </p:nvSpPr>
          <p:spPr>
            <a:xfrm flipV="1">
              <a:off x="4029120" y="1982880"/>
              <a:ext cx="1085760" cy="939600"/>
            </a:xfrm>
            <a:custGeom>
              <a:avLst/>
              <a:gdLst>
                <a:gd name="textAreaLeft" fmla="*/ 389520 w 1085760"/>
                <a:gd name="textAreaRight" fmla="*/ 696240 w 1085760"/>
                <a:gd name="textAreaTop" fmla="*/ 336960 h 939600"/>
                <a:gd name="textAreaBottom" fmla="*/ 60264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77"/>
            <p:cNvSpPr/>
            <p:nvPr/>
          </p:nvSpPr>
          <p:spPr>
            <a:xfrm flipV="1">
              <a:off x="3486240" y="2921760"/>
              <a:ext cx="2171520" cy="941400"/>
            </a:xfrm>
            <a:custGeom>
              <a:avLst/>
              <a:gdLst>
                <a:gd name="textAreaLeft" fmla="*/ 477360 w 2171520"/>
                <a:gd name="textAreaRight" fmla="*/ 1694160 w 2171520"/>
                <a:gd name="textAreaTop" fmla="*/ 207000 h 941400"/>
                <a:gd name="textAreaBottom" fmla="*/ 73440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78"/>
            <p:cNvSpPr/>
            <p:nvPr/>
          </p:nvSpPr>
          <p:spPr>
            <a:xfrm flipV="1">
              <a:off x="2943000" y="3863160"/>
              <a:ext cx="3257640" cy="939960"/>
            </a:xfrm>
            <a:custGeom>
              <a:avLst/>
              <a:gdLst>
                <a:gd name="textAreaLeft" fmla="*/ 565560 w 3257640"/>
                <a:gd name="textAreaRight" fmla="*/ 2692080 w 3257640"/>
                <a:gd name="textAreaTop" fmla="*/ 163080 h 939960"/>
                <a:gd name="textAreaBottom" fmla="*/ 77688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79"/>
            <p:cNvSpPr/>
            <p:nvPr/>
          </p:nvSpPr>
          <p:spPr>
            <a:xfrm flipV="1">
              <a:off x="2400120" y="4803840"/>
              <a:ext cx="4343400" cy="939600"/>
            </a:xfrm>
            <a:custGeom>
              <a:avLst/>
              <a:gdLst>
                <a:gd name="textAreaLeft" fmla="*/ 653400 w 4343400"/>
                <a:gd name="textAreaRight" fmla="*/ 3690000 w 4343400"/>
                <a:gd name="textAreaTop" fmla="*/ 141120 h 939600"/>
                <a:gd name="textAreaBottom" fmla="*/ 79848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&amp;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302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al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……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radicate Il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Conventional Primary Education as well as adult Lite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 Schools/Centre &amp; where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it co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, staff, books, evaluation, supervision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Content Placeholder 3"/>
          <p:cNvGrpSpPr/>
          <p:nvPr/>
        </p:nvGrpSpPr>
        <p:grpSpPr>
          <a:xfrm>
            <a:off x="2067840" y="1486080"/>
            <a:ext cx="5541120" cy="4584600"/>
            <a:chOff x="2067840" y="1486080"/>
            <a:chExt cx="5541120" cy="4584600"/>
          </a:xfrm>
        </p:grpSpPr>
        <p:sp>
          <p:nvSpPr>
            <p:cNvPr id="116" name="_s4100"/>
            <p:cNvSpPr/>
            <p:nvPr/>
          </p:nvSpPr>
          <p:spPr>
            <a:xfrm flipH="1" flipV="1">
              <a:off x="3870000" y="2559960"/>
              <a:ext cx="700560" cy="9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101"/>
            <p:cNvSpPr/>
            <p:nvPr/>
          </p:nvSpPr>
          <p:spPr>
            <a:xfrm>
              <a:off x="3097800" y="178776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4102"/>
            <p:cNvSpPr/>
            <p:nvPr/>
          </p:nvSpPr>
          <p:spPr>
            <a:xfrm flipH="1" flipV="1">
              <a:off x="3209400" y="3197880"/>
              <a:ext cx="11768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4103"/>
            <p:cNvSpPr/>
            <p:nvPr/>
          </p:nvSpPr>
          <p:spPr>
            <a:xfrm>
              <a:off x="2251800" y="26028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.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4104"/>
            <p:cNvSpPr/>
            <p:nvPr/>
          </p:nvSpPr>
          <p:spPr>
            <a:xfrm flipH="1">
              <a:off x="3068640" y="3876480"/>
              <a:ext cx="1279080" cy="15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4105"/>
            <p:cNvSpPr/>
            <p:nvPr/>
          </p:nvSpPr>
          <p:spPr>
            <a:xfrm>
              <a:off x="2067840" y="367056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abo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4106"/>
            <p:cNvSpPr/>
            <p:nvPr/>
          </p:nvSpPr>
          <p:spPr>
            <a:xfrm flipH="1">
              <a:off x="3490200" y="4089600"/>
              <a:ext cx="974160" cy="70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4107"/>
            <p:cNvSpPr/>
            <p:nvPr/>
          </p:nvSpPr>
          <p:spPr>
            <a:xfrm>
              <a:off x="2605320" y="465048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108"/>
            <p:cNvSpPr/>
            <p:nvPr/>
          </p:nvSpPr>
          <p:spPr>
            <a:xfrm flipH="1">
              <a:off x="4338000" y="4215960"/>
              <a:ext cx="363600" cy="10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09"/>
            <p:cNvSpPr/>
            <p:nvPr/>
          </p:nvSpPr>
          <p:spPr>
            <a:xfrm>
              <a:off x="3692160" y="523224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asibil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110"/>
            <p:cNvSpPr/>
            <p:nvPr/>
          </p:nvSpPr>
          <p:spPr>
            <a:xfrm>
              <a:off x="4981680" y="4214160"/>
              <a:ext cx="363600" cy="10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111"/>
            <p:cNvSpPr/>
            <p:nvPr/>
          </p:nvSpPr>
          <p:spPr>
            <a:xfrm>
              <a:off x="4983480" y="523224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12"/>
            <p:cNvSpPr/>
            <p:nvPr/>
          </p:nvSpPr>
          <p:spPr>
            <a:xfrm>
              <a:off x="5216760" y="4088160"/>
              <a:ext cx="974160" cy="70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113"/>
            <p:cNvSpPr/>
            <p:nvPr/>
          </p:nvSpPr>
          <p:spPr>
            <a:xfrm>
              <a:off x="6068520" y="4649040"/>
              <a:ext cx="100476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14"/>
            <p:cNvSpPr/>
            <p:nvPr/>
          </p:nvSpPr>
          <p:spPr>
            <a:xfrm>
              <a:off x="5333040" y="3875040"/>
              <a:ext cx="1274760" cy="15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4115"/>
            <p:cNvSpPr/>
            <p:nvPr/>
          </p:nvSpPr>
          <p:spPr>
            <a:xfrm>
              <a:off x="6603840" y="36684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16"/>
            <p:cNvSpPr/>
            <p:nvPr/>
          </p:nvSpPr>
          <p:spPr>
            <a:xfrm flipV="1">
              <a:off x="5292000" y="3196440"/>
              <a:ext cx="117252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17"/>
            <p:cNvSpPr/>
            <p:nvPr/>
          </p:nvSpPr>
          <p:spPr>
            <a:xfrm>
              <a:off x="6419880" y="26028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18"/>
            <p:cNvSpPr/>
            <p:nvPr/>
          </p:nvSpPr>
          <p:spPr>
            <a:xfrm flipV="1">
              <a:off x="5108040" y="2561760"/>
              <a:ext cx="696600" cy="90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19"/>
            <p:cNvSpPr/>
            <p:nvPr/>
          </p:nvSpPr>
          <p:spPr>
            <a:xfrm>
              <a:off x="5574240" y="1789920"/>
              <a:ext cx="100476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20"/>
            <p:cNvSpPr/>
            <p:nvPr/>
          </p:nvSpPr>
          <p:spPr>
            <a:xfrm flipV="1">
              <a:off x="4838400" y="2324520"/>
              <a:ext cx="0" cy="107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21"/>
            <p:cNvSpPr/>
            <p:nvPr/>
          </p:nvSpPr>
          <p:spPr>
            <a:xfrm>
              <a:off x="4335840" y="148608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22"/>
            <p:cNvSpPr/>
            <p:nvPr/>
          </p:nvSpPr>
          <p:spPr>
            <a:xfrm>
              <a:off x="4335840" y="339912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e-Planning (creation of suitable organiz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machinery to participate, creation of inform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efining objectives at various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we   stand at a certain period of time/Year in terms of quality and qua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statistical information about the structure of Education, policies, students, teachers, institutions, and finances etc., which provides the quantitative &amp; qualitative frame work for the development of educ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iagnosis of present situation &amp; previous perform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iagnosis helps us to find out the gaps between the current system and the required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criteria, relevance, effectiveness,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formulation is basically a political function. Educational objectives and general guidelines to accomplish these objectives are fr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all the required material needs to materialize th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If you don’t plan, the student will plan for 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tudent imagination"/>
          <p:cNvPicPr/>
          <p:nvPr/>
        </p:nvPicPr>
        <p:blipFill>
          <a:blip r:embed="rId1"/>
          <a:stretch/>
        </p:blipFill>
        <p:spPr>
          <a:xfrm>
            <a:off x="2057400" y="16765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ies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priorities is the grading of required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s, wants and dispensa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-determined level which planner aims at achieving in terms of quantity as well as qu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able, plausible, realistic, economical, practicable, serviceab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the practicability and potential threats regarding proposed pla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efor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ing all the brainstorming into a writte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s and Chap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E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, Project identification and reg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of plan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unit of a plan for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description of a piec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execution, management proc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annual budget, annual plan personnel 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incentive,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ystematic feedb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revision, target resetting, changes in strateg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ormative, summative, qualitative, quantita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evaluation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velopment goals for a backward &amp; poor rural communit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3595680" y="5791320"/>
            <a:ext cx="36525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sources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lan Academic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ing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Goals and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44600" y="1459080"/>
            <a:ext cx="80899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19320" y="1601640"/>
            <a:ext cx="6476760" cy="45230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basis (SWOT Analy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1600200"/>
          <a:ext cx="8229600" cy="18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 Calen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able Activity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143000" y="2459160"/>
            <a:ext cx="66294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Prep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cademic Calendar for Your In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your goals for academic excellence in School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keeping in view the following consid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atisfaction of fel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tilization of untapped/hidde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void Potential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agement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ic Planning…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444680" y="2009880"/>
            <a:ext cx="625464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pperplate Gothic Bold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163520" y="2786040"/>
            <a:ext cx="6810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‘ADVERTISEMENT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‘AN IDEAL MANAGE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ontent Placeholder 4" descr=""/>
          <p:cNvPicPr/>
          <p:nvPr/>
        </p:nvPicPr>
        <p:blipFill>
          <a:blip r:embed="rId1"/>
          <a:stretch/>
        </p:blipFill>
        <p:spPr>
          <a:xfrm>
            <a:off x="974880" y="2030400"/>
            <a:ext cx="3000240" cy="366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648320" y="2071800"/>
            <a:ext cx="40384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ing to Luther Gaullic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DCo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Content Placeholder 3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185" name="_s5124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875560" y="2105640"/>
              <a:ext cx="905400" cy="3512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5125"/>
            <p:cNvCxnSpPr>
              <a:stCxn id="189" idx="0"/>
              <a:endCxn id="187" idx="2"/>
            </p:cNvCxnSpPr>
            <p:nvPr/>
          </p:nvCxnSpPr>
          <p:spPr>
            <a:xfrm flipV="1" rot="16200000">
              <a:off x="5172840" y="2808360"/>
              <a:ext cx="905400" cy="21067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5126"/>
            <p:cNvCxnSpPr>
              <a:stCxn id="191" idx="0"/>
              <a:endCxn id="187" idx="2"/>
            </p:cNvCxnSpPr>
            <p:nvPr/>
          </p:nvCxnSpPr>
          <p:spPr>
            <a:xfrm flipV="1" rot="16200000">
              <a:off x="4471560" y="3509640"/>
              <a:ext cx="905400" cy="704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5127"/>
            <p:cNvCxnSpPr>
              <a:stCxn id="193" idx="0"/>
              <a:endCxn id="187" idx="2"/>
            </p:cNvCxnSpPr>
            <p:nvPr/>
          </p:nvCxnSpPr>
          <p:spPr>
            <a:xfrm flipH="1" flipV="1" rot="5400000">
              <a:off x="3769200" y="3511080"/>
              <a:ext cx="905400" cy="70200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5128"/>
            <p:cNvCxnSpPr>
              <a:stCxn id="195" idx="0"/>
              <a:endCxn id="187" idx="2"/>
            </p:cNvCxnSpPr>
            <p:nvPr/>
          </p:nvCxnSpPr>
          <p:spPr>
            <a:xfrm flipH="1" flipV="1" rot="5400000">
              <a:off x="3066840" y="2808360"/>
              <a:ext cx="905400" cy="210744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5129"/>
            <p:cNvCxnSpPr>
              <a:stCxn id="197" idx="0"/>
              <a:endCxn id="187" idx="2"/>
            </p:cNvCxnSpPr>
            <p:nvPr/>
          </p:nvCxnSpPr>
          <p:spPr>
            <a:xfrm flipH="1" flipV="1" rot="5400000">
              <a:off x="2363760" y="2105640"/>
              <a:ext cx="905400" cy="35125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5130"/>
            <p:cNvSpPr/>
            <p:nvPr/>
          </p:nvSpPr>
          <p:spPr>
            <a:xfrm>
              <a:off x="3968640" y="160020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g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31"/>
            <p:cNvSpPr/>
            <p:nvPr/>
          </p:nvSpPr>
          <p:spPr>
            <a:xfrm>
              <a:off x="4572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132"/>
            <p:cNvSpPr/>
            <p:nvPr/>
          </p:nvSpPr>
          <p:spPr>
            <a:xfrm>
              <a:off x="186228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ganiz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133"/>
            <p:cNvSpPr/>
            <p:nvPr/>
          </p:nvSpPr>
          <p:spPr>
            <a:xfrm>
              <a:off x="326772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ff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134"/>
            <p:cNvSpPr/>
            <p:nvPr/>
          </p:nvSpPr>
          <p:spPr>
            <a:xfrm>
              <a:off x="46728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135"/>
            <p:cNvSpPr/>
            <p:nvPr/>
          </p:nvSpPr>
          <p:spPr>
            <a:xfrm>
              <a:off x="6078240" y="4314960"/>
              <a:ext cx="1203120" cy="180972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87">
                  <a:moveTo>
                    <a:pt x="3600" y="0"/>
                  </a:moveTo>
                  <a:arcTo wR="3600" hR="3600" stAng="16200000" swAng="-5400000"/>
                  <a:lnTo>
                    <a:pt x="0" y="28887"/>
                  </a:lnTo>
                  <a:arcTo wR="3600" hR="3600" stAng="10800000" swAng="-5400000"/>
                  <a:lnTo>
                    <a:pt x="18000" y="32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rd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36"/>
            <p:cNvSpPr/>
            <p:nvPr/>
          </p:nvSpPr>
          <p:spPr>
            <a:xfrm>
              <a:off x="748224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Activity: </a:t>
            </a:r>
            <a:br>
              <a:rPr sz="3600"/>
            </a:b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How Do You Workout Science Exhibition Project In You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846440" y="2039760"/>
            <a:ext cx="54511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nd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3c6"/>
                </a:solidFill>
                <a:latin typeface="바탕"/>
                <a:ea typeface="바탕"/>
              </a:rPr>
              <a:t>What do you mean by Educational develo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THANKS A 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ught out arrangements for doing any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scheme for making, doing or arranging somet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ce1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is a process of identifying a course of action systematically in an organized manner to achieve objectives by utilizing the available resources skillfully in a cost effective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tch the limited resources with 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unnecessary expendi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best cours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P. Guru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principle in planning is that one should consciously and diligently make a choice among the foreseeable alternative futures and guide today’s action towards the achievement of the selected futur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2:15:08Z</dcterms:created>
  <dc:creator>Tahir</dc:creator>
  <dc:description/>
  <dc:language>en-US</dc:language>
  <cp:lastModifiedBy>SaaD</cp:lastModifiedBy>
  <dcterms:modified xsi:type="dcterms:W3CDTF">2019-11-06T08:28:42Z</dcterms:modified>
  <cp:revision>52</cp:revision>
  <dc:subject/>
  <dc:title>Planning “A scheme for making, doing or arranging something”</dc:title>
</cp:coreProperties>
</file>